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388-90AF-4CC0-A29E-D8AA4E49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B64-1FA8-4353-B195-BDAD0080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300-977C-4A95-A6FA-B79F1CC9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35A-644D-43BA-9BA5-D961FF99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D5F5-AA7B-47D4-AF9A-81C19994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5DF3-DB75-41AB-B365-A84078F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BC4-B5DB-4E62-BD54-D5DB1FCE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F58F-7C2D-41C7-B666-B94B33C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D2C-5FFC-48CF-AF89-B45D5A90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882D-CC9F-4978-A9AA-B2621439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C083-3381-4EC3-9F22-A2B34A5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2BD-D9EC-495A-8000-673625C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2CB9-D3C6-4CAE-BCD5-BC3D97D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43C6-B699-4D2C-AE62-7E5F13F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0F6-E31F-430C-8F22-0D348F29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A1CC-4810-4249-9F65-896E9F51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4D4-3D86-4D79-82CC-4FD9E46F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846-B6C6-4566-A6CF-BD27D7BA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F5F-917F-4077-8B76-0697466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8F5-EB58-4434-8711-D1FFC55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A56-A941-449C-9244-ABE4A71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F86-F9F9-45D0-9AC2-C8EE5DB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474-A2CE-40F3-B5D0-7A3A165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146-3680-4557-B1BD-3E9B7BF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831F-A53F-4EFC-AA64-7737E71A3BD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AD6-71AF-4686-B370-47842BF79A9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 and the New Wor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ncounters, 1500 - 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French and the British in Ind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ghal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act of the Wester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tch and the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r Robert C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of Plassey (17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ina &amp; Japa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695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g Dynasty (1369 – 16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in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In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 Tokugawa Ieyasu (1543 – 16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o th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visitors welc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meric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 and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 In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and 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ugar Facto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estown (16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ng effects to local populations in America and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impact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racial society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native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, orphanages and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o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bia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European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colate, Coffee and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ival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iews of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rdus Mercator (1512 – 1594) and his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Global Patterns of the European States in the Eighteenth Centur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Picture 4" descr="WCB3e_m14"/>
          <p:cNvPicPr/>
          <p:nvPr/>
        </p:nvPicPr>
        <p:blipFill>
          <a:blip r:embed="rId1"/>
          <a:stretch/>
        </p:blipFill>
        <p:spPr>
          <a:xfrm>
            <a:off x="-6667560" y="-4038480"/>
            <a:ext cx="22479120" cy="1493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CB3e_m14"/>
          <p:cNvPicPr/>
          <p:nvPr/>
        </p:nvPicPr>
        <p:blipFill>
          <a:blip r:embed="rId2"/>
          <a:stretch/>
        </p:blipFill>
        <p:spPr>
          <a:xfrm>
            <a:off x="990720" y="1174680"/>
            <a:ext cx="7864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 a World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onditions in the Sixteen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wth of Commercial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stock trading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economic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nk of Ams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terdam Bourse (Ex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volume of trade un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ctivity = war through peaceful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of bullion and favorable balance of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ter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Overseas Trade and Colonies: Movement Towar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oceanic trade very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 Europea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patterns interlocked Europe, Africa, the East and 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523880"/>
            <a:ext cx="7769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 Portuguese so well positioned for overseas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Spanish able to defeat the Azte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and economic forces drove the Slave T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British able to achieve such a dominant position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id European colonization have on the col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conomic changes occurred in Europe as a result of Mercantilism and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the Brink of a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s and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vels of John Mandeville (14th centu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olemy’s Geography (14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Voyage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outh Asia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und the Indus in 90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ast Asian History Sourc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Jamest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Horizons: The Portuguese and Spanish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Henry the Navigator (1394 – 14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elopment of a Portuguese Maritim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holomeu 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a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s India by rounding Cape of Good 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onso d’Albuquerque (1462 – 15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– Military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Portugues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Discoveries and Possessions in the Fifteenth and Sixteenth Centurie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5" descr="WCB3e_m14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yages of the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opher Columbus (1451 – 15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 the Bahamas (Oct. 12, 14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voyages (1493, 1498, and 15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iscov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a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Ca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˜ez de Balb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 (1480 – 15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mnavigates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Tordesillas (14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in the New Worl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Civilizations in Mesoam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zt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Conquest of the Aztec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an Cortés (1485 – 15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tezuma (Montez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tec Empire over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a and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hak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co Pizarro (c. 1475 – 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s overthrown (1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of the Spanish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frica: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Cane and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in 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0,000,000 African slaves taken to the Americas between the Sixteenth and Nineteenth Cent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ath rate during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ers o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pulation of African king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effects of slav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ism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of Friends =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 in Southeast As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utch and the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Kingdoms (Burma, Siam, and Vietn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1-10-18T13:24:55Z</dcterms:modified>
  <cp:revision>200</cp:revision>
  <dc:subject/>
  <dc:title>Chapter 14</dc:title>
</cp:coreProperties>
</file>